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1275-70C6-461A-B62A-B959DFCA9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09C-F6B5-4CBC-A068-C076770FBCD1}" type="slidenum">
              <a:rPr b="0" lang="en-US" sz="1200" spc="-1" strike="noStrike">
                <a:solidFill>
                  <a:srgbClr val="2070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66A-353E-4DE5-B756-9743E1F3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5AE-A3DA-42F2-9196-F748841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1B3-07E2-4162-9E81-FD8C7EE8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DC0-DF3D-4465-ACB5-148DDA1A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740-78B3-4D7C-9D9C-4AC354BA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9899-F954-4523-8F5F-1A518B89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03A-3F97-4E82-82EB-B3F25C0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097-0DBD-42C0-A0DA-B5F548C1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4B1-523D-45E4-898E-2C7A2CF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5EEB-A1E0-49CB-8EE7-982D40AD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B1A-963A-4D06-AEC9-741D476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F95-41E4-4286-B76C-6C84974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CC43-CA5A-45B7-934B-B341318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057-188C-48CE-ACF7-F244118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F43F-3354-40CA-9BA6-50245A2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5260-3D2A-4405-B0DB-AA54C670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84F8-BC56-4278-8F3E-2C437CA5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9D0D-575E-4612-9503-A83DA8E0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9177-50D2-402D-ACD1-BD2B8C8D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7BA56-ACC2-4039-A546-D62C2BC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FD90-4C78-45D9-AF07-8D94EAE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9E46-127E-4367-9B32-AE3618F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5E6-B27A-4046-8524-F1886CC6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1B5D-41C6-46DC-9F12-742315DE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F374-6AB5-45F6-AC2B-419B254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87AF-A664-420D-B833-49D3A9F9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3B30-4972-4A8B-A1D7-C449F9D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04A67-7EF5-4430-857A-AAE8D341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229F-452E-4680-8B0A-92EA76AE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1D73-DBBC-46AF-A3CD-40CC0D84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F910-40FC-46A3-92ED-632A6F80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D35A-933C-4DFA-9DB8-03FF00B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A0F2B-DB50-471C-9042-A12D2E7A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10B-F4FB-4B75-95BB-7924967E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82AC-41B6-4BB9-A0F3-7AFCA88C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3E21-4AEB-47F9-A2DB-494D903E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5D660-D97F-4221-822B-BDB5FE74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0F77-BC9A-4E41-A085-97789092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D0E5-A315-49DB-9C22-4D43B28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F886-DB8C-4D30-AC49-BF1A54A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E50C-DDB0-4967-A3F1-DAF17437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AF19-1BF1-426C-A385-0E15AD36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F826-E7E1-437F-BA1D-713C6CC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5EC7-E784-46F1-AD90-BC608CDC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414-D55E-41F1-AAEE-265D0FB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A9411-0FBB-42A3-8B3A-0879097A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B3B84-C5FF-45FD-8F70-51EF6C7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3EE5-A08C-4069-9045-F4A80C3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4F46-803E-496C-A662-3BAFDAB3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4027-1C97-48B1-B37A-DFD2E9AF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53F7-7538-48FD-9D79-3CDBD01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479E0-1F1A-41FA-A9CE-56B0994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1ED39-CF11-4922-B915-74207C6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E7AC-1B33-414A-B9FD-C7E1C0C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FEA2-FBC0-4823-9856-D49F8EA2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0AF-EDD8-4F3D-8244-19629072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1E61-E54E-4EBC-838D-3BFE776A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E900-9E00-45BF-8834-B2B6D8C6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0C907-10E5-40F3-A847-CB41A2F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E6F5-9E36-4279-B068-C9462E6E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C416-2ACB-4C4F-8D39-80D77C8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E287-C800-49D3-8A53-D54FD65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06346-145A-4EDC-85DF-59D259DC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54410-9DCE-4E3F-9525-2EBF73D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BDE8-3FDF-41D2-9EDC-CF32E79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E2307-60F3-41D0-A5A4-E118566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988-3E55-44D6-92CA-0728388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17B35-E5CA-4D60-939B-DB85240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1688-50AC-437A-885F-E6B0E1A2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3E66-2E34-432B-9985-412A16F0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308-935E-43C9-9B59-48BC990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636-7485-4C57-AA45-FB024BC3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9ED-06EF-4231-9025-D7DE5DA8813D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3BB-023F-4CE9-8102-191A844E2E93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5CA6-E28C-45F4-BFB5-C1EB7C7CC775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A56-89D0-43EC-A551-4E1B7824FBC3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052D-3192-415D-93C3-113E69F54470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0709d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20709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7f0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293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14425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4ea5d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20709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709d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22222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817-264D-4D43-8A15-6338960163C5}" type="slidenum">
              <a:rPr b="0" lang="en-US" sz="1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7.xml"/><Relationship Id="rId18" Type="http://schemas.openxmlformats.org/officeDocument/2006/relationships/slide" Target="slide18.xml"/><Relationship Id="rId19" Type="http://schemas.openxmlformats.org/officeDocument/2006/relationships/slide" Target="slide19.xml"/><Relationship Id="rId20" Type="http://schemas.openxmlformats.org/officeDocument/2006/relationships/slide" Target="slide20.xml"/><Relationship Id="rId21" Type="http://schemas.openxmlformats.org/officeDocument/2006/relationships/slide" Target="slide21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" Target="slide24.xml"/><Relationship Id="rId25" Type="http://schemas.openxmlformats.org/officeDocument/2006/relationships/slide" Target="slide25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28.xml"/><Relationship Id="rId3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5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sp>
          <p:nvSpPr>
            <p:cNvPr id="262" name="Rectangle 57"/>
            <p:cNvSpPr/>
            <p:nvPr/>
          </p:nvSpPr>
          <p:spPr>
            <a:xfrm>
              <a:off x="0" y="3352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3" name="Rectangle 58"/>
            <p:cNvSpPr/>
            <p:nvPr/>
          </p:nvSpPr>
          <p:spPr>
            <a:xfrm>
              <a:off x="0" y="4495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4" name="Rectangle 35"/>
            <p:cNvSpPr/>
            <p:nvPr/>
          </p:nvSpPr>
          <p:spPr>
            <a:xfrm>
              <a:off x="0" y="1066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5" name="Rectangle 56"/>
            <p:cNvSpPr/>
            <p:nvPr/>
          </p:nvSpPr>
          <p:spPr>
            <a:xfrm>
              <a:off x="0" y="220968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0" y="563904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7" name="Rectangle 60"/>
            <p:cNvSpPr/>
            <p:nvPr/>
          </p:nvSpPr>
          <p:spPr>
            <a:xfrm>
              <a:off x="0" y="678204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8" name="Rectangle 61"/>
            <p:cNvSpPr/>
            <p:nvPr/>
          </p:nvSpPr>
          <p:spPr>
            <a:xfrm rot="5400000">
              <a:off x="121824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 rot="5400000">
              <a:off x="274212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0" name="Rectangle 63"/>
            <p:cNvSpPr/>
            <p:nvPr/>
          </p:nvSpPr>
          <p:spPr>
            <a:xfrm rot="5400000">
              <a:off x="426636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1" name="Rectangle 64"/>
            <p:cNvSpPr/>
            <p:nvPr/>
          </p:nvSpPr>
          <p:spPr>
            <a:xfrm rot="5400000">
              <a:off x="-30564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2" name="Rectangle 65"/>
            <p:cNvSpPr/>
            <p:nvPr/>
          </p:nvSpPr>
          <p:spPr>
            <a:xfrm rot="5400000">
              <a:off x="-182952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3" name="Rectangle 66"/>
            <p:cNvSpPr/>
            <p:nvPr/>
          </p:nvSpPr>
          <p:spPr>
            <a:xfrm rot="5400000">
              <a:off x="5725080" y="3363120"/>
              <a:ext cx="6782040" cy="5544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4" name="Rectangle 67"/>
            <p:cNvSpPr/>
            <p:nvPr/>
          </p:nvSpPr>
          <p:spPr>
            <a:xfrm rot="5400000">
              <a:off x="-3353400" y="3353040"/>
              <a:ext cx="678204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5" name="Rectangle 70"/>
            <p:cNvSpPr/>
            <p:nvPr/>
          </p:nvSpPr>
          <p:spPr>
            <a:xfrm>
              <a:off x="0" y="0"/>
              <a:ext cx="9144000" cy="7596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7ab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6" name="Rounded Rectangle 77"/>
            <p:cNvSpPr/>
            <p:nvPr/>
          </p:nvSpPr>
          <p:spPr>
            <a:xfrm>
              <a:off x="15228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7" name="Rounded Rectangle 78"/>
            <p:cNvSpPr/>
            <p:nvPr/>
          </p:nvSpPr>
          <p:spPr>
            <a:xfrm>
              <a:off x="15228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8" name="Rounded Rectangle 79"/>
            <p:cNvSpPr/>
            <p:nvPr/>
          </p:nvSpPr>
          <p:spPr>
            <a:xfrm>
              <a:off x="15228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79" name="Rounded Rectangle 80"/>
            <p:cNvSpPr/>
            <p:nvPr/>
          </p:nvSpPr>
          <p:spPr>
            <a:xfrm>
              <a:off x="15228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0" name="Rounded Rectangle 81"/>
            <p:cNvSpPr/>
            <p:nvPr/>
          </p:nvSpPr>
          <p:spPr>
            <a:xfrm>
              <a:off x="15228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1" name="Rounded Rectangle 82"/>
            <p:cNvSpPr/>
            <p:nvPr/>
          </p:nvSpPr>
          <p:spPr>
            <a:xfrm>
              <a:off x="167616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2" name="Rounded Rectangle 83"/>
            <p:cNvSpPr/>
            <p:nvPr/>
          </p:nvSpPr>
          <p:spPr>
            <a:xfrm>
              <a:off x="167616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8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3" name="Rounded Rectangle 84"/>
            <p:cNvSpPr/>
            <p:nvPr/>
          </p:nvSpPr>
          <p:spPr>
            <a:xfrm>
              <a:off x="167616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9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4" name="Rounded Rectangle 85"/>
            <p:cNvSpPr/>
            <p:nvPr/>
          </p:nvSpPr>
          <p:spPr>
            <a:xfrm>
              <a:off x="167616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0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5" name="Rounded Rectangle 86"/>
            <p:cNvSpPr/>
            <p:nvPr/>
          </p:nvSpPr>
          <p:spPr>
            <a:xfrm>
              <a:off x="167616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1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6" name="Rounded Rectangle 87"/>
            <p:cNvSpPr/>
            <p:nvPr/>
          </p:nvSpPr>
          <p:spPr>
            <a:xfrm>
              <a:off x="320040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7" name="Rounded Rectangle 88"/>
            <p:cNvSpPr/>
            <p:nvPr/>
          </p:nvSpPr>
          <p:spPr>
            <a:xfrm>
              <a:off x="320040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8" name="Rounded Rectangle 89"/>
            <p:cNvSpPr/>
            <p:nvPr/>
          </p:nvSpPr>
          <p:spPr>
            <a:xfrm>
              <a:off x="320040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89" name="Rounded Rectangle 90"/>
            <p:cNvSpPr/>
            <p:nvPr/>
          </p:nvSpPr>
          <p:spPr>
            <a:xfrm>
              <a:off x="320040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0" name="Rounded Rectangle 91"/>
            <p:cNvSpPr/>
            <p:nvPr/>
          </p:nvSpPr>
          <p:spPr>
            <a:xfrm>
              <a:off x="320040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1" name="Rounded Rectangle 92"/>
            <p:cNvSpPr/>
            <p:nvPr/>
          </p:nvSpPr>
          <p:spPr>
            <a:xfrm>
              <a:off x="472428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2" name="Rounded Rectangle 93"/>
            <p:cNvSpPr/>
            <p:nvPr/>
          </p:nvSpPr>
          <p:spPr>
            <a:xfrm>
              <a:off x="472428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8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3" name="Rounded Rectangle 94"/>
            <p:cNvSpPr/>
            <p:nvPr/>
          </p:nvSpPr>
          <p:spPr>
            <a:xfrm>
              <a:off x="472428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19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4" name="Rounded Rectangle 95"/>
            <p:cNvSpPr/>
            <p:nvPr/>
          </p:nvSpPr>
          <p:spPr>
            <a:xfrm>
              <a:off x="472428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0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5" name="Rounded Rectangle 96"/>
            <p:cNvSpPr/>
            <p:nvPr/>
          </p:nvSpPr>
          <p:spPr>
            <a:xfrm>
              <a:off x="472428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1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6" name="Rounded Rectangle 97"/>
            <p:cNvSpPr/>
            <p:nvPr/>
          </p:nvSpPr>
          <p:spPr>
            <a:xfrm>
              <a:off x="6248520" y="121896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2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7" name="Rounded Rectangle 98"/>
            <p:cNvSpPr/>
            <p:nvPr/>
          </p:nvSpPr>
          <p:spPr>
            <a:xfrm>
              <a:off x="6248520" y="2362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3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8" name="Rounded Rectangle 99"/>
            <p:cNvSpPr/>
            <p:nvPr/>
          </p:nvSpPr>
          <p:spPr>
            <a:xfrm>
              <a:off x="6248520" y="3505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4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299" name="Rounded Rectangle 100"/>
            <p:cNvSpPr/>
            <p:nvPr/>
          </p:nvSpPr>
          <p:spPr>
            <a:xfrm>
              <a:off x="6248520" y="4648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5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0" name="Rounded Rectangle 101"/>
            <p:cNvSpPr/>
            <p:nvPr/>
          </p:nvSpPr>
          <p:spPr>
            <a:xfrm>
              <a:off x="6248520" y="5791320"/>
              <a:ext cx="129528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6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1" name="Rounded Rectangle 102"/>
            <p:cNvSpPr/>
            <p:nvPr/>
          </p:nvSpPr>
          <p:spPr>
            <a:xfrm>
              <a:off x="7772400" y="121896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7" action="ppaction://hlinksldjump"/>
                </a:rPr>
                <a:t>1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2" name="Rounded Rectangle 107"/>
            <p:cNvSpPr/>
            <p:nvPr/>
          </p:nvSpPr>
          <p:spPr>
            <a:xfrm>
              <a:off x="7772400" y="3505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8" action="ppaction://hlinksldjump"/>
                </a:rPr>
                <a:t>3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3" name="Rounded Rectangle 108"/>
            <p:cNvSpPr/>
            <p:nvPr/>
          </p:nvSpPr>
          <p:spPr>
            <a:xfrm>
              <a:off x="7772400" y="4648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29" action="ppaction://hlinksldjump"/>
                </a:rPr>
                <a:t>4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4" name="Rounded Rectangle 109"/>
            <p:cNvSpPr/>
            <p:nvPr/>
          </p:nvSpPr>
          <p:spPr>
            <a:xfrm>
              <a:off x="7772400" y="5791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0" action="ppaction://hlinksldjump"/>
                </a:rPr>
                <a:t>5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5" name="Rounded Rectangle 110"/>
            <p:cNvSpPr/>
            <p:nvPr/>
          </p:nvSpPr>
          <p:spPr>
            <a:xfrm>
              <a:off x="7772400" y="2362320"/>
              <a:ext cx="1252440" cy="914400"/>
            </a:xfrm>
            <a:prstGeom prst="roundRect">
              <a:avLst>
                <a:gd name="adj" fmla="val 16667"/>
              </a:avLst>
            </a:prstGeom>
            <a:solidFill>
              <a:srgbClr val="b8dbef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e3145"/>
                  </a:solidFill>
                  <a:uFillTx/>
                  <a:latin typeface="Arial"/>
                  <a:hlinkClick r:id="rId31" action="ppaction://hlinksldjump"/>
                </a:rPr>
                <a:t>200</a:t>
              </a:r>
              <a:endParaRPr b="0" lang="en-US" sz="40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6" name="Rounded Rectangle 111"/>
            <p:cNvSpPr/>
            <p:nvPr/>
          </p:nvSpPr>
          <p:spPr>
            <a:xfrm>
              <a:off x="15228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+1 Trait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7" name="Rounded Rectangle 112"/>
            <p:cNvSpPr/>
            <p:nvPr/>
          </p:nvSpPr>
          <p:spPr>
            <a:xfrm>
              <a:off x="167616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o Kill a Mockingbird</a:t>
              </a:r>
              <a:endParaRPr b="0" lang="en-US" sz="13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8" name="Rounded Rectangle 113"/>
            <p:cNvSpPr/>
            <p:nvPr/>
          </p:nvSpPr>
          <p:spPr>
            <a:xfrm>
              <a:off x="320040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Definitions</a:t>
              </a:r>
              <a:endParaRPr b="0" lang="en-US" sz="15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09" name="Rounded Rectangle 114"/>
            <p:cNvSpPr/>
            <p:nvPr/>
          </p:nvSpPr>
          <p:spPr>
            <a:xfrm>
              <a:off x="472428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hort Storie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10" name="Rounded Rectangle 115"/>
            <p:cNvSpPr/>
            <p:nvPr/>
          </p:nvSpPr>
          <p:spPr>
            <a:xfrm>
              <a:off x="6248520" y="152280"/>
              <a:ext cx="129528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rm Examples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  <p:sp>
          <p:nvSpPr>
            <p:cNvPr id="311" name="Rounded Rectangle 116"/>
            <p:cNvSpPr/>
            <p:nvPr/>
          </p:nvSpPr>
          <p:spPr>
            <a:xfrm>
              <a:off x="7772400" y="152280"/>
              <a:ext cx="1252440" cy="838080"/>
            </a:xfrm>
            <a:prstGeom prst="roundRect">
              <a:avLst>
                <a:gd name="adj" fmla="val 16667"/>
              </a:avLst>
            </a:prstGeom>
            <a:solidFill>
              <a:srgbClr val="14425d"/>
            </a:solidFill>
            <a:ln w="19080">
              <a:solidFill>
                <a:srgbClr val="2881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 of View and Plot</a:t>
              </a:r>
              <a:endParaRPr b="0" lang="en-US" sz="1600" spc="-1" strike="noStrike">
                <a:solidFill>
                  <a:srgbClr val="20709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ounded Rectangle 4">
            <a:hlinkClick r:id="rId2" action="ppaction://hlinksldjump"/>
          </p:cNvPr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character was addicted to morphine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rs. Dubos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0709d"/>
                </a:solidFill>
                <a:latin typeface="Arial"/>
              </a:rPr>
              <a:t>To Kill a Mockingbird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 is an example of what kind of story? (autobiography, biography, memoir, fiction, nonfiction, etc.)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304920" y="4876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Fic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nonfict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304920" y="35053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omething that is real or happened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simil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4920" y="289548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Comparison of two unlike things using the words like or as.</a:t>
            </a:r>
            <a:endParaRPr b="0" lang="en-US" sz="66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autobiography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304920" y="2971800"/>
            <a:ext cx="8458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hen an author writes a story about his or her own life.</a:t>
            </a:r>
            <a:endParaRPr b="0" lang="en-US" sz="66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them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central idea of a literary work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3">
            <a:hlinkClick r:id="rId2" action="ppaction://hlinksldjump"/>
          </p:cNvPr>
          <p:cNvSpPr/>
          <p:nvPr/>
        </p:nvSpPr>
        <p:spPr>
          <a:xfrm>
            <a:off x="411480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80880" y="1600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Define memoi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304920" y="237816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When an author writes about a brief period in his or her life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is being hunted on Ship Trap Island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5" name="TextBox 9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uman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fruit does Santiago reminisce about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7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uava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o is telling the story “The Necklace?”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 narrator (third person)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trait that covers the overall look of the piece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resent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4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at is the most important emotion according to “The Gift of the Magi?”</a:t>
            </a:r>
            <a:br>
              <a:rPr sz="4000"/>
            </a:br>
            <a:r>
              <a:rPr b="0" lang="en-US" sz="4000" spc="-1" strike="noStrike">
                <a:solidFill>
                  <a:srgbClr val="20709d"/>
                </a:solidFill>
                <a:latin typeface="Arial"/>
              </a:rPr>
              <a:t>(anger, trust, envy, love, greed, etc.)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304920" y="48769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ending of “The Most Dangerous Game” is left open-ended. What is the correct terminology for this?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304920" y="4648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Ambiguity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She is as tall as a tre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imil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80880" y="22096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yperbol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Your momma is so dumb, she tripped over a cordless phon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sunlight danced across the water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ersonific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80880" y="22096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rony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6002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e ending of “The Necklace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 tried to climb around in her skin and walk around in it” is an example of what literary term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etaphor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correct terminology for the “turning point” of the story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7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climax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part of the story is where the characters and setting are introduced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Exposi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n the third person point of view, who is the story told by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5" name="TextBox 9"/>
          <p:cNvSpPr/>
          <p:nvPr/>
        </p:nvSpPr>
        <p:spPr>
          <a:xfrm>
            <a:off x="304920" y="3733920"/>
            <a:ext cx="8458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0000"/>
                </a:solidFill>
                <a:latin typeface="Arial"/>
              </a:rPr>
              <a:t>A narrator/someone not in the story</a:t>
            </a:r>
            <a:endParaRPr b="0" lang="en-US" sz="68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380880" y="2209680"/>
            <a:ext cx="853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makes sure you are using correct grammar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Convention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is the part of the story where the conflict is introduced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ising Ac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380880" y="2133720"/>
            <a:ext cx="853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709d"/>
                </a:solidFill>
                <a:latin typeface="Arial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80880" y="2209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In first person point of view, who is the story told by?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304920" y="4114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main character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1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80880" y="129528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requires an inviting introduction, thoughtful transitions, logical sequencing, controlled pacing, and a satisfying conclusio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304920" y="480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Organization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makes up the content of the piece of writing.</a:t>
            </a: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Ideas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5"/>
          <p:cNvSpPr/>
          <p:nvPr/>
        </p:nvSpPr>
        <p:spPr>
          <a:xfrm>
            <a:off x="4038480" y="2286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5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304920" y="1752480"/>
            <a:ext cx="8534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trait should be individual and engaging, suit the audience and topic, and have a strong interaction with the reade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304920" y="472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Voic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ounded Rectangle 7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380880" y="22096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Who is the narrator of the story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Scout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ounded Rectangle 3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80880" y="2209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family falsely accused Tom Robinson of rape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304920" y="4114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Ewells.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ounded Rectangle 3"/>
          <p:cNvSpPr/>
          <p:nvPr/>
        </p:nvSpPr>
        <p:spPr>
          <a:xfrm>
            <a:off x="3962520" y="2286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b8dbef"/>
          </a:solidFill>
          <a:ln w="19080">
            <a:solidFill>
              <a:srgbClr val="288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e3145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80880" y="2209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709d"/>
                </a:solidFill>
                <a:latin typeface="Arial"/>
              </a:rPr>
              <a:t>This lady’s house burned down.</a:t>
            </a:r>
            <a:endParaRPr b="0" lang="en-US" sz="40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04920" y="3962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iss Maudie</a:t>
            </a:r>
            <a:endParaRPr b="0" lang="en-US" sz="7200" spc="-1" strike="noStrike">
              <a:solidFill>
                <a:srgbClr val="20709d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8077320" y="6019920"/>
            <a:ext cx="685800" cy="457200"/>
          </a:xfrm>
          <a:custGeom>
            <a:avLst/>
            <a:gdLst>
              <a:gd name="textAreaLeft" fmla="*/ 119880 w 685800"/>
              <a:gd name="textAreaRight" fmla="*/ 497160 w 6858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070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70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4:33:25Z</dcterms:created>
  <dc:creator>Eng</dc:creator>
  <dc:description/>
  <dc:language>en-US</dc:language>
  <cp:lastModifiedBy>owner</cp:lastModifiedBy>
  <dcterms:modified xsi:type="dcterms:W3CDTF">2013-01-21T05:38:38Z</dcterms:modified>
  <cp:revision>67</cp:revision>
  <dc:subject/>
  <dc:title>Slide 1</dc:title>
</cp:coreProperties>
</file>